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2F3E-1F09-42B0-871B-639AABB45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A115-F25F-42B3-8E2A-287477E28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54B8-A0A7-4039-BA90-656C1474C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94EF-6B34-4ED8-8914-92862806D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8941-971D-48FB-A7E9-DCA77C456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8D24-25EA-46B2-85CD-5E2311ED7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C560-B4BD-4F2C-85C8-9E108FC69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9988-A62E-4924-93C6-220F6734F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F5E74-4A78-4900-969F-5CEFFC2339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4469A-10AA-4CD6-A814-8FA57B6147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287F5-3EB7-404C-BECC-931320A7A5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73014-B08A-4DAB-9060-008B66ECA0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E423E-E140-4D06-8E30-454676B4A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03551-06FE-4369-BB0A-AD9766F2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28891-76E0-49F1-B114-9F01D17F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59DD2-517D-48EB-9E02-A5D59EF5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ABE2F-3A56-490F-9927-23B0D0ED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6D7F6-A957-4737-9671-61ADD9F7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C99EF-13AE-4019-B1C6-3F3B6259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42F80-AA89-47D9-8F29-72E56807CD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CD32E-4B6E-43EF-9F74-A859679F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F83B2-97A3-4CDD-8882-5D38AEF9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9B1BB-8995-40EF-95B0-1D4CEF1C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DE0FA-0D9F-4812-B54C-DB60CDDB8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0FA7A-DB42-4968-8AB1-DA8068B1F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43190-6BB6-4DEA-9394-579BC21A13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130F4-F032-4816-88A6-CD37AE1FBF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C47DA-4048-4A97-A7FF-27DAB02B7B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94B1E-9AB3-47B1-82D8-4B6CE24393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924CC-2028-47C2-9488-CA394EF413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8BFEE-5122-449E-B50B-6B06154647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88863-6D19-43F1-95EC-9E2668235D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9F3D-AD28-4D08-BAA8-0F21943E56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D17C-4399-4237-BFC4-372D02C422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3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1D28-31D2-4AEB-BD2B-FD72B4DFB7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9" name="Rectangle 8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9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10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2" name="Rectangle 11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6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7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8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19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0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Text Box 21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Aides visuel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2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FA80-C989-4621-9411-1FB6DAB58B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visual_sop"/>
          <p:cNvPicPr/>
          <p:nvPr/>
        </p:nvPicPr>
        <p:blipFill>
          <a:blip r:embed="rId1"/>
          <a:srcRect l="51824" t="0" r="0" b="0"/>
          <a:stretch/>
        </p:blipFill>
        <p:spPr>
          <a:xfrm>
            <a:off x="4724280" y="946080"/>
            <a:ext cx="4025880" cy="4965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533520" y="1549440"/>
            <a:ext cx="3886200" cy="39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 Une image vaut 1000 mots 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enser aux </a:t>
            </a:r>
            <a:r>
              <a:rPr b="0" lang="fr-FR" sz="2800" spc="-1" strike="noStrike">
                <a:solidFill>
                  <a:srgbClr val="9999ff"/>
                </a:solidFill>
                <a:latin typeface="Arial"/>
              </a:rPr>
              <a:t>aides visuell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afin d’aider à renforcer la conformité aux nouvelles procé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5"/>
          <p:cNvSpPr/>
          <p:nvPr/>
        </p:nvSpPr>
        <p:spPr>
          <a:xfrm>
            <a:off x="6781680" y="2133720"/>
            <a:ext cx="2362320" cy="82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’assurer que l’étiquet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est juste en dessous du capuch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6"/>
          <p:cNvSpPr/>
          <p:nvPr/>
        </p:nvSpPr>
        <p:spPr>
          <a:xfrm>
            <a:off x="6781680" y="2819520"/>
            <a:ext cx="2362320" cy="100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ette étiquette est presque droite, a un code bar propre et aucun surplus ne dépasse le tour du tu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7"/>
          <p:cNvSpPr/>
          <p:nvPr/>
        </p:nvSpPr>
        <p:spPr>
          <a:xfrm>
            <a:off x="6781680" y="4611600"/>
            <a:ext cx="2362320" cy="82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ette étiquette ne s’étend pas jusqu’à l’extrémité inférieur du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8"/>
          <p:cNvSpPr/>
          <p:nvPr/>
        </p:nvSpPr>
        <p:spPr>
          <a:xfrm>
            <a:off x="4952880" y="5667480"/>
            <a:ext cx="236232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tiquette correc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E1AC-E282-43AB-8851-C87C2C0A49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4" descr="specimen_visual_aid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0" y="716040"/>
            <a:ext cx="91440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ide visuelle permettant de déterminer le volume suffisant de sé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429000" y="1295280"/>
            <a:ext cx="5715000" cy="502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a mesure visuelle, afin de déterminer si le spécimen est au dessous de la limite de 2,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nir le spécimen contre la carte visuelle de me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igner le gel séparateur a la ligne du 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 utilisant la ligne du haut, déterminer s’il y a plus ou moins 2,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oneTexte 8"/>
          <p:cNvSpPr/>
          <p:nvPr/>
        </p:nvSpPr>
        <p:spPr>
          <a:xfrm>
            <a:off x="1981080" y="3581280"/>
            <a:ext cx="83844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D85A-0B95-4EF8-BE4B-C0EAF1D0EF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4" descr="sample_management_1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de visuelle déterminant l’acceptabilité du spéc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57200" y="1523880"/>
            <a:ext cx="34290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’il y a 2,5 cm ou plus de séru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4191120" y="1371600"/>
            <a:ext cx="472428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mballer le spécimen et le transporter comme d’hab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oneTexte 9"/>
          <p:cNvSpPr/>
          <p:nvPr/>
        </p:nvSpPr>
        <p:spPr>
          <a:xfrm>
            <a:off x="3505320" y="3882960"/>
            <a:ext cx="83808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E077-2825-4AE9-9AFB-71333CD3DE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4" descr="sample_management_acceptability_2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0" y="1447920"/>
            <a:ext cx="40384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is, s’il y a moins de 2,5 cm de sé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4038480" y="1219320"/>
            <a:ext cx="510552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rquer le haut du tube avec un X et emballer le spécimen dans une boîte priorit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de visuelle déterminant l’acceptabilité du spéc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oneTexte 9"/>
          <p:cNvSpPr/>
          <p:nvPr/>
        </p:nvSpPr>
        <p:spPr>
          <a:xfrm>
            <a:off x="3124080" y="3882960"/>
            <a:ext cx="83844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A334-A1CF-47B1-8CA3-AE44782628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5_finger_prick_job_aid"/>
          <p:cNvPicPr/>
          <p:nvPr/>
        </p:nvPicPr>
        <p:blipFill>
          <a:blip r:embed="rId1"/>
          <a:stretch/>
        </p:blipFill>
        <p:spPr>
          <a:xfrm>
            <a:off x="1781280" y="0"/>
            <a:ext cx="523692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372E-E0A3-4830-90B9-CF1EE64870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5_venipuncture_cdc_who"/>
          <p:cNvPicPr/>
          <p:nvPr/>
        </p:nvPicPr>
        <p:blipFill>
          <a:blip r:embed="rId1"/>
          <a:stretch/>
        </p:blipFill>
        <p:spPr>
          <a:xfrm>
            <a:off x="1733400" y="0"/>
            <a:ext cx="528984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dolmazonv</cp:lastModifiedBy>
  <dcterms:modified xsi:type="dcterms:W3CDTF">2010-04-08T14:53:07Z</dcterms:modified>
  <cp:revision>9</cp:revision>
  <dc:subject/>
  <dc:title>Quality Manual Structure and Contents</dc:title>
</cp:coreProperties>
</file>